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5721-EF8E-470E-838C-E37158F0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C63-4029-4D60-A521-9D221B1D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0BB-0834-4150-AC10-C8455762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AFE6-A721-44E0-BF33-7FD128C6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EE13-774C-487E-A73E-F6B26B88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FA3-8CA4-419E-B0B3-460C7EB3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26E-5FFF-4E61-AA1B-2C4629D31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3100-B3FE-40B2-B927-653E522C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AB2-D35E-4292-B716-29399FB3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0EB-5921-4BDC-A85E-E3FB42479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3F8C-9987-4A09-ABCD-C8008CAB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8F5-5752-4782-8ECE-5FEF961C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17D-A943-4C0B-9105-E57B4EF5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40F-D213-4DC5-BFFB-4A947EC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D5B-BAB3-441B-9932-03BAF458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75E-F735-4707-950C-611B634B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FD4-4CEE-4643-8716-1C43990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ABF-849F-4321-AE95-F1CB7F2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FCB-B6D4-4991-8B16-49C89F9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18B-E134-4273-B73F-46CD353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DB8-500A-424F-A3DF-829BC410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5C6-3FD0-4102-A69D-F78C465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337-62D0-449D-AEC4-D5BF0AF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D7B-2C44-43AA-8754-B2F4514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8B6-D2BF-410F-8713-BD1C9637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Marker Felt"/>
              </a:rPr>
              <a:t>Un Pulp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905120" y="53341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r Charlotte 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048120" cy="6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248520" y="2666880"/>
            <a:ext cx="1981080" cy="10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hk11a.gif"/>
          <p:cNvPicPr/>
          <p:nvPr/>
        </p:nvPicPr>
        <p:blipFill>
          <a:blip r:embed="rId4"/>
          <a:stretch/>
        </p:blipFill>
        <p:spPr>
          <a:xfrm>
            <a:off x="3581280" y="2666880"/>
            <a:ext cx="213372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003-cartoon-whale.gif"/>
          <p:cNvPicPr/>
          <p:nvPr/>
        </p:nvPicPr>
        <p:blipFill>
          <a:blip r:embed="rId5"/>
          <a:stretch/>
        </p:blipFill>
        <p:spPr>
          <a:xfrm>
            <a:off x="1447920" y="259092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990720" y="838080"/>
            <a:ext cx="71625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ballena, una bal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003-cartoon-whale.gif"/>
          <p:cNvPicPr/>
          <p:nvPr/>
        </p:nvPicPr>
        <p:blipFill>
          <a:blip r:embed="rId1"/>
          <a:stretch/>
        </p:blipFill>
        <p:spPr>
          <a:xfrm>
            <a:off x="2209680" y="3200400"/>
            <a:ext cx="4724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797400" y="380880"/>
            <a:ext cx="7582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ballena, una ballena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Marker Felt"/>
              </a:rPr>
              <a:t>(Burp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Perdóna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003-cartoon-whale.gif"/>
          <p:cNvPicPr/>
          <p:nvPr/>
        </p:nvPicPr>
        <p:blipFill>
          <a:blip r:embed="rId1"/>
          <a:stretch/>
        </p:blipFill>
        <p:spPr>
          <a:xfrm>
            <a:off x="2209680" y="3200400"/>
            <a:ext cx="4724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sardina, una sardin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6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7724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sardina, una sardin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a por 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77724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pulpito, un pulpito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6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772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n pulpito, un pulpit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772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atún, un atú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atún, un atú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2578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tiburón, un tibur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hk11a.gif"/>
          <p:cNvPicPr/>
          <p:nvPr/>
        </p:nvPicPr>
        <p:blipFill>
          <a:blip r:embed="rId1"/>
          <a:stretch/>
        </p:blipFill>
        <p:spPr>
          <a:xfrm>
            <a:off x="1371600" y="2666880"/>
            <a:ext cx="66452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tiburón, un tiburó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hk11a.gif"/>
          <p:cNvPicPr/>
          <p:nvPr/>
        </p:nvPicPr>
        <p:blipFill>
          <a:blip r:embed="rId1"/>
          <a:stretch/>
        </p:blipFill>
        <p:spPr>
          <a:xfrm>
            <a:off x="1371600" y="2666880"/>
            <a:ext cx="55627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2:40:22Z</dcterms:created>
  <dc:creator>M. DeBoer</dc:creator>
  <dc:description/>
  <dc:language>en-US</dc:language>
  <cp:lastModifiedBy>User</cp:lastModifiedBy>
  <dcterms:modified xsi:type="dcterms:W3CDTF">2011-05-11T14:40:33Z</dcterms:modified>
  <cp:revision>17</cp:revision>
  <dc:subject/>
  <dc:title>PowerPoint Presentation</dc:title>
</cp:coreProperties>
</file>